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0C3B1AC-C142-44E0-9475-111DC4AA32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4BD454-2134-46C9-A554-42D4E1DA2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A952AFF-829D-43F7-BD78-E55CF06C27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E649EB-953E-4182-855F-3C1CB9F332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0D092A0-A64F-43CC-BA73-C39F68B81F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C16064-49A7-4FE2-BFED-65D604F965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728CBA-95CC-45FF-BFFB-6459FF8A04F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590D5A7-C488-4AAF-8D5E-AB8844C729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FB365A-8A6D-4686-AF5A-CC8463493B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0AA333D-C2C1-4835-AA10-31E5962AF6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2AD12B9-C3BA-4FCC-A22A-71635D63B9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FDAA76-1F27-4E60-A8DA-28B218A794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9151900-3B60-4944-AA12-D5AFACFD31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1E17F7-D6C4-4DA0-AEBC-163601C8B6C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FBBBA57-3C99-45F7-85A4-C439504938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E4065B0-B406-4713-A39C-1DCE15B9B4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318F83-0A4A-4568-B8E0-DEB4217DDF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1A42A8-9675-430C-858F-D626F49F63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9C5A274-C59A-45EB-BC36-5902B5A688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F4FBCD-E402-45B5-BEDE-5DD337F3D0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BBB1B1B-84E0-4F20-9BD2-29D8C6E14C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CA972DF-4036-42DD-91B2-F473FEFBFA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285B34-32C4-4F72-A2F7-B870389CDA1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5CB267F-AA49-452C-919C-5B38C23BFD2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3130B92-D0B5-4BDC-B0B7-30840D3B06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41E71E-4774-46FC-86C7-AC3216487F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F1A8A40-85B2-4006-A336-19528566F34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B06D84-7012-4781-8A80-24FA548789C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0D8AB9-969B-4CF0-A475-5DD9A962F6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F8E479-DC73-4D6C-890F-8A661DCC070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1305A7-7D2D-4336-AC4F-77AC4614C3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91B8567-27B2-4E99-9A16-A16C14FC885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13AD8A4-9789-4650-B18D-C223C20C77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D53E938-A383-42C5-B1FD-A269E40BBD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F36273-2CFC-48E1-8748-078D2F9DDA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8A4D49-2855-401B-B700-4D64C35173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3772561-81AD-41FC-A9C8-74A02B0B971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E9C39B8-4085-46A6-9F4B-168FD58E0B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A7031D7-63F2-4161-9C06-A55DE870CE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0056BEE-8474-4CE9-B512-EFE958080B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F1D5C7C-8AE8-4283-B80A-717F30187C9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938240" y="59688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4FFC59-8F70-4F7E-992D-B2BD309C44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938240" y="59688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C48E3F-FEC6-45B4-84B4-4C6A80518D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62B81C9-5C40-44A8-8A7B-E97E6BC9A5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5F8CBE-9C71-4755-BA59-C12415CA80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72FB026-E65D-4970-919F-ADD14F2167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672E57-41EE-464F-90E6-0EF88A064B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E11F-6F2B-4C9D-9C5E-D83F0451B07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89CD-1DED-4F5B-B507-9D543D38D15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8"/>
          <p:cNvSpPr/>
          <p:nvPr/>
        </p:nvSpPr>
        <p:spPr>
          <a:xfrm>
            <a:off x="1004760" y="141300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F378-6127-475A-83B5-74B8366F4C3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5BB2-0D7F-4E65-969B-9F3017BCD92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04760" y="141300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0118-716C-4B2E-8A49-50F36C5F33A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BADC-D0D9-48E1-9A73-D39E7E801B9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04760" y="141300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0188-2F66-4D02-A0AC-879F9832DF1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6BE2-AA8F-4A06-B801-F836F47DDAD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004760" y="141300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B735C441-44BD-4531-A389-BBE6AFC88C3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0"/>
          <p:cNvSpPr/>
          <p:nvPr/>
        </p:nvSpPr>
        <p:spPr>
          <a:xfrm>
            <a:off x="99360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Using PSP Dat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5165280" y="154620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300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mportance of Period Pla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09720" y="16700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rs focus on project plans, but live in a periodic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have committed d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es collect revenue, declare dividends, and pay sala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ll pay monthly bills and collect periodic payche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lso take time off for weekends and scheduled va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project plans and period plans is the source of most project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why it is important to use sound methods when making the project sche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7444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Estimat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9964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ake a schedule, you need three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stimated direct project hours for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alendar of available direct hou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rder in which the tasks will be 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, you need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hours needed for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ad these task hours over the calendar of available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1440" y="817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ilable Direct Ho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85960" y="1641240"/>
            <a:ext cx="73720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ffing sche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ojects are not instantly staff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need a committed staffing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a calendar spread of available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52 weeks per year and 40 hours per week,              1 year = 2080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3 weeks of vacation and 10 holidays,                   1 year =1880 hours (90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10% for meetings and 15% for mail and interrupts,  1 year ≈ 1000 to 1400 hours (50 to 65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tional time is usually spent on project activities that are not related to the direct ta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776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Or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90280" y="1645920"/>
            <a:ext cx="76899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ask order is driven by the development strateg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need a conceptual appro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task needs completion crite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ust consider task interdependenc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consider cost and cycle-time prior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the planned task 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itial task order provides a basis for plan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ask order will change with new knowled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444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 the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85960" y="1627200"/>
            <a:ext cx="7905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hours that each task will tak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portion of total hours have such tasks taken historicall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anything unusual affect this projec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ensure that tasks are not omitted, consider the tasks for the entire pro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ad the task hours over the calend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key project checkpoi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 standard form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8704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ask Planning 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99640" y="16365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task planning template is shown in table 7.2 (page 118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fill out this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the tasks in expected completion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estimated hours for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the hours in the cumulative hours colum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is point, start to prepare the schedule planning templ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8840" y="8078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Planning 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99640" y="1650960"/>
            <a:ext cx="7805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schedule template is shown in table 7.1 (page 116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tart filling out this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the calendar dates in the left-hand colum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days or weeks, depending on project sc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ays, list eve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eeks, use a standard day (for example, Mon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the planned direct project hours available each we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the hours in the cumulative hours colum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the task and schedule templates concurren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092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ing th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90640" y="1627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 on the task template for the cumulative hours needed to complete that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schedule template, find the week during which those hours are first exc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task template, enter that week’s date in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lumn for that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now have the task schedu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4440" y="81252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Planning Exampl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017720" y="2165400"/>
          <a:ext cx="7413480" cy="412920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Rectangle 3"/>
          <p:cNvSpPr/>
          <p:nvPr/>
        </p:nvSpPr>
        <p:spPr>
          <a:xfrm>
            <a:off x="554040" y="1346040"/>
            <a:ext cx="821376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774720" y="1692360"/>
            <a:ext cx="8004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task planning template, enter the estimated hours per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4440" y="8190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Planning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017720" y="2370240"/>
          <a:ext cx="7413480" cy="392436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43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3"/>
          <p:cNvSpPr/>
          <p:nvPr/>
        </p:nvSpPr>
        <p:spPr>
          <a:xfrm>
            <a:off x="774720" y="1679400"/>
            <a:ext cx="78516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schedule planning template, enter the direct hours available per day or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30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80560" y="16318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7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ersonal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ing task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ing sche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 project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ned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job compl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766800" y="1685880"/>
            <a:ext cx="78264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task schedule, enter the day (or week) during which the cumulative hours for each task is rea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9120" y="8143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Planning Example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017720" y="2521080"/>
          <a:ext cx="7413480" cy="3773520"/>
        </p:xfrm>
        <a:graphic>
          <a:graphicData uri="http://schemas.openxmlformats.org/drawingml/2006/table">
            <a:tbl>
              <a:tblPr/>
              <a:tblGrid>
                <a:gridCol w="1854000"/>
                <a:gridCol w="1852560"/>
                <a:gridCol w="1854360"/>
                <a:gridCol w="1852560"/>
              </a:tblGrid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730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Tracking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8056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tracking would be simple 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always completed tasks in the planned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asks were added or de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never happ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always 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s get cancelled or defer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tasks are dropped and others are ad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errors are comm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730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Tracking -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99640" y="16318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track project status in a dynamic environment, you need a way to assign a value that measures the contribution of each task towards the whole pro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you c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up the value of the completed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e this value to the value of the total 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percentage of job compl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does this with a method calle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arned val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EV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6976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ed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90640" y="1627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ned value (E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a value for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s progress tracking against th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ates tracking, even with changes to th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ned value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ned value provides a common value for each tas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value is the percentage of the total project hours that this task is planned to tak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lanned value is credited, no matter how long it actually took to do the tas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value is given for partially-completed ta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plan changes require new pl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74440" y="817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 the Planned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85600" y="1636560"/>
            <a:ext cx="7608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task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the number of project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percentage of the total hours for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is percentage as the planned value (PV) for that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cumulative PV for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schedule template, enter the cumulative planned value for the tasks to be completed each day or wee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762120" y="1701720"/>
            <a:ext cx="75596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r" pos="291960"/>
                <a:tab algn="r" pos="1600200"/>
                <a:tab algn="r" pos="3035160"/>
                <a:tab algn="r" pos="4406760"/>
                <a:tab algn="r" pos="543564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the PV, or the planned percentage of the total job that each task repres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69760" y="804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ed Value Exampl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017720" y="2506680"/>
          <a:ext cx="7413480" cy="3787920"/>
        </p:xfrm>
        <a:graphic>
          <a:graphicData uri="http://schemas.openxmlformats.org/drawingml/2006/table">
            <a:tbl>
              <a:tblPr/>
              <a:tblGrid>
                <a:gridCol w="1234800"/>
                <a:gridCol w="1236960"/>
                <a:gridCol w="1234800"/>
                <a:gridCol w="1235160"/>
                <a:gridCol w="1236600"/>
                <a:gridCol w="1235160"/>
              </a:tblGrid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8902800" y="3568680"/>
          <a:ext cx="207720" cy="3967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762120" y="1679400"/>
            <a:ext cx="755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cumulative planned value for each day (or we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4440" y="823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ed Value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017720" y="2220840"/>
          <a:ext cx="7413480" cy="4073760"/>
        </p:xfrm>
        <a:graphic>
          <a:graphicData uri="http://schemas.openxmlformats.org/drawingml/2006/table">
            <a:tbl>
              <a:tblPr/>
              <a:tblGrid>
                <a:gridCol w="1854000"/>
                <a:gridCol w="1852560"/>
                <a:gridCol w="1854360"/>
                <a:gridCol w="1852560"/>
              </a:tblGrid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8236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king th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10800" y="1627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each task is completed, it earns the planned val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earned value (EV) for that tas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date on which the task was comple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the EV-to-date in the “Cumulative EV” colum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schedule template, enter the cumulative EV for each day or week as it is comple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earned value versus planned value by day or wee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771480" y="1693800"/>
            <a:ext cx="7559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project, enter on the task planning template the day each task is comple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8840" y="8190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king the Plan Exampl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017720" y="2425680"/>
          <a:ext cx="7413480" cy="4091040"/>
        </p:xfrm>
        <a:graphic>
          <a:graphicData uri="http://schemas.openxmlformats.org/drawingml/2006/table">
            <a:tbl>
              <a:tblPr/>
              <a:tblGrid>
                <a:gridCol w="1060200"/>
                <a:gridCol w="1057320"/>
                <a:gridCol w="1060560"/>
                <a:gridCol w="1057320"/>
                <a:gridCol w="1060200"/>
                <a:gridCol w="1057320"/>
                <a:gridCol w="1060560"/>
              </a:tblGrid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774720" y="1690560"/>
            <a:ext cx="7559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schedule template, enter the earned value (EV) for each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6240" y="8236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king the Plan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017720" y="2508120"/>
          <a:ext cx="7413480" cy="3786480"/>
        </p:xfrm>
        <a:graphic>
          <a:graphicData uri="http://schemas.openxmlformats.org/drawingml/2006/table">
            <a:tbl>
              <a:tblPr/>
              <a:tblGrid>
                <a:gridCol w="1482480"/>
                <a:gridCol w="1482840"/>
                <a:gridCol w="1482840"/>
                <a:gridCol w="1482480"/>
                <a:gridCol w="1482840"/>
              </a:tblGrid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30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Data in Plann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99640" y="1670040"/>
            <a:ext cx="76503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planning development work, we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task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project sche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job status against th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 job status to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must also manage the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to the sche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plan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project ri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product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ecture covers the topics of planning and schedule manag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6976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Job Comple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9964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 that the project will continue to earn EV at the same rate as in the pa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polate the time to project completion by extending the EV line until it reaches 10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the likely project completion date, unl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ate of progress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for the remaining tasks deviates from the original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790560" y="1684440"/>
            <a:ext cx="755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 fontScale="72000"/>
          </a:bodyPr>
          <a:p>
            <a:pPr marL="92520" indent="-92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actual EV per 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70120" y="828360"/>
            <a:ext cx="78213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Completion Exampl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17720" y="2206800"/>
          <a:ext cx="7413480" cy="3840120"/>
        </p:xfrm>
        <a:graphic>
          <a:graphicData uri="http://schemas.openxmlformats.org/drawingml/2006/table">
            <a:tbl>
              <a:tblPr/>
              <a:tblGrid>
                <a:gridCol w="1234800"/>
                <a:gridCol w="1236960"/>
                <a:gridCol w="1234800"/>
                <a:gridCol w="1235160"/>
                <a:gridCol w="1236600"/>
                <a:gridCol w="1235160"/>
              </a:tblGrid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j. 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124"/>
          <p:cNvSpPr/>
          <p:nvPr/>
        </p:nvSpPr>
        <p:spPr>
          <a:xfrm>
            <a:off x="996840" y="6199200"/>
            <a:ext cx="563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you expect to fi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757080" y="1679400"/>
            <a:ext cx="7560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actual EV earned per day (9.72), enter the projected EV by day to project comple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65080" y="828360"/>
            <a:ext cx="776448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Completion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017720" y="2398680"/>
          <a:ext cx="7413480" cy="3925800"/>
        </p:xfrm>
        <a:graphic>
          <a:graphicData uri="http://schemas.openxmlformats.org/drawingml/2006/table">
            <a:tbl>
              <a:tblPr/>
              <a:tblGrid>
                <a:gridCol w="1234800"/>
                <a:gridCol w="1236960"/>
                <a:gridCol w="1234800"/>
                <a:gridCol w="1235160"/>
                <a:gridCol w="1236600"/>
                <a:gridCol w="1235160"/>
              </a:tblGrid>
              <a:tr h="567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j. 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17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 Chang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04680" y="1627200"/>
            <a:ext cx="7613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track job progress, you must follow the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plans always change, you must regularly update the plan so that it represents what you currently plan to 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course, you must always keep copies of the original pla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less the plan differs significantly from the way that you now plan to work, merely add any new tasks and delete the cancelled 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61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 Chang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04680" y="1636560"/>
            <a:ext cx="7613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ng tasks reduces the earned value of all of the planned and completed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ly, deleting tasks increases the earned values of the planned and completed tasks remaining in the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TSP support tools will make these EV and PV adjustments for yo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major plan changes, you must make a new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30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Report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99640" y="16318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all team members consistently record their data, TSP teams will know precisely where they st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can track, manage, and report on thei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charts show how you can use these data to run a pro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use these exact same methods to manage your personal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4440" y="721800"/>
            <a:ext cx="8240760" cy="854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TSP Weekly Data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17360" y="4219560"/>
            <a:ext cx="741348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all team members consistently record their data, TSP teams can precisely track and manage thei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know the planned and actual data for each week and for the project to d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can precisely measure job status and estimate how long it will take to finish the wor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S36"/>
          <p:cNvPicPr/>
          <p:nvPr/>
        </p:nvPicPr>
        <p:blipFill>
          <a:blip r:embed="rId1"/>
          <a:stretch/>
        </p:blipFill>
        <p:spPr>
          <a:xfrm>
            <a:off x="1000080" y="1805040"/>
            <a:ext cx="725796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74440" y="712800"/>
            <a:ext cx="8240760" cy="85392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08000" y="4174920"/>
            <a:ext cx="7413840" cy="19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team ahead of or behind schedule, and by how mu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6" descr="S37"/>
          <p:cNvPicPr/>
          <p:nvPr/>
        </p:nvPicPr>
        <p:blipFill>
          <a:blip r:embed="rId1"/>
          <a:stretch/>
        </p:blipFill>
        <p:spPr>
          <a:xfrm>
            <a:off x="1009800" y="1781280"/>
            <a:ext cx="725796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93520" y="721800"/>
            <a:ext cx="8240760" cy="854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 to Question 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07640" y="4201920"/>
            <a:ext cx="7404120" cy="19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team ahead of or behind schedule, and by how mu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has earned only 22.3 EV against a plan of 28.2 EV, so they are 26.5% beh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, it will take 1.85 weeks to reach the planned 28.2 EV, so they are 1.85 weeks behind sche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S38"/>
          <p:cNvPicPr/>
          <p:nvPr/>
        </p:nvPicPr>
        <p:blipFill>
          <a:blip r:embed="rId1"/>
          <a:stretch/>
        </p:blipFill>
        <p:spPr>
          <a:xfrm>
            <a:off x="952560" y="1771560"/>
            <a:ext cx="725796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3800" y="712800"/>
            <a:ext cx="8240760" cy="85392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22040" y="4155840"/>
            <a:ext cx="74134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is the team behind schedu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6" descr="S39"/>
          <p:cNvPicPr/>
          <p:nvPr/>
        </p:nvPicPr>
        <p:blipFill>
          <a:blip r:embed="rId1"/>
          <a:stretch/>
        </p:blipFill>
        <p:spPr>
          <a:xfrm>
            <a:off x="961920" y="1743120"/>
            <a:ext cx="725832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300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Personal Data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90640" y="16318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se and detailed data can help you to manage your personal and team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s and customers care ab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you will finish the 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the work will c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of the finished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PSP data, you will know where you stand and can provide regular updates to your managers and custom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93520" y="712800"/>
            <a:ext cx="8240760" cy="85392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 to Question 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08000" y="4156200"/>
            <a:ext cx="74138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is the team behind schedu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hough the team is working more than its planned weekly hours, the work is taking 23% longer than plan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" descr="S40"/>
          <p:cNvPicPr/>
          <p:nvPr/>
        </p:nvPicPr>
        <p:blipFill>
          <a:blip r:embed="rId1"/>
          <a:stretch/>
        </p:blipFill>
        <p:spPr>
          <a:xfrm>
            <a:off x="942840" y="1790640"/>
            <a:ext cx="725832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74440" y="712800"/>
            <a:ext cx="8240760" cy="85392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3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02960" y="4158720"/>
            <a:ext cx="7413480" cy="19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is rate, can the team members finish on the original plan of 25 weeks?  If not, how late will they b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S41"/>
          <p:cNvPicPr/>
          <p:nvPr/>
        </p:nvPicPr>
        <p:blipFill>
          <a:blip r:embed="rId1"/>
          <a:stretch/>
        </p:blipFill>
        <p:spPr>
          <a:xfrm>
            <a:off x="961920" y="1828800"/>
            <a:ext cx="725832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93520" y="721800"/>
            <a:ext cx="8240760" cy="854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 to Question 3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31760" y="4195440"/>
            <a:ext cx="74138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is rate, can the team members finish on the original plan of 25 weeks?  If not, how late will they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has earned EV at 22.3/7 = 3.186 EV/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is rate, it will take (100-22.3)/3.186 = 24.2 more weeks to finish.  This is 6.2 weeks behind the 25-week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6" descr="S42"/>
          <p:cNvPicPr/>
          <p:nvPr/>
        </p:nvPicPr>
        <p:blipFill>
          <a:blip r:embed="rId1"/>
          <a:stretch/>
        </p:blipFill>
        <p:spPr>
          <a:xfrm>
            <a:off x="952560" y="1843200"/>
            <a:ext cx="7257960" cy="22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74440" y="712800"/>
            <a:ext cx="8240760" cy="85392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07640" y="4156200"/>
            <a:ext cx="7521480" cy="19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this five-person team meet the original schedule?  If not, what help would they need from management to do s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" descr="S43"/>
          <p:cNvPicPr/>
          <p:nvPr/>
        </p:nvPicPr>
        <p:blipFill>
          <a:blip r:embed="rId1"/>
          <a:stretch/>
        </p:blipFill>
        <p:spPr>
          <a:xfrm>
            <a:off x="952560" y="1857240"/>
            <a:ext cx="725796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83800" y="721800"/>
            <a:ext cx="8240760" cy="854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 to Question 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17360" y="4209840"/>
            <a:ext cx="7621560" cy="21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is five-person team meet the original schedule?  If not, what help would they need from management to do 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eet the schedule, they need to do 77.7 EV of work in 17 weeks, or 4.57 EV a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crease their average EV rate of 3.186 EV a week by 35%, they must work 35% more hours, or add a team me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6" descr="S44"/>
          <p:cNvPicPr/>
          <p:nvPr/>
        </p:nvPicPr>
        <p:blipFill>
          <a:blip r:embed="rId1"/>
          <a:stretch/>
        </p:blipFill>
        <p:spPr>
          <a:xfrm>
            <a:off x="961920" y="1752480"/>
            <a:ext cx="725832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6508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12960" y="1660320"/>
            <a:ext cx="7650000" cy="4298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0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team did increase their task hours somewhat and they also spent less time than planned in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also reprioritized the work and slightly reduced the total workl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actually finished on the exact day originally plan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PSP, you will precisely know job status and will have the data to manage your own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is knowledge, you will usually meet your commit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604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02880" y="16650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PSP, you can accurately plan and track your own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earned value, you can precisely judge job status and estimate the likely project completion d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nformation will permit you to make accurate and timely management repo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your reports indicate potential problems, you should report recommended remedial 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a self-directed team, you must tell management what you are doing to solve your own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300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Personal Data -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99640" y="16318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all team members use PSP data to plan, manage, and track their personal work, the team can precisely report job stat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will provide management with the information that they ne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will also reassure the custom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importantly, using data wil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ince management that you can manage your own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 management to continue supporting self-directed team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6328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Task Plans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90640" y="16318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both individual and team plans, the first steps a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job’s goals and 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a strategy for doing the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he processes t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, you c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size of the 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he tasks to be 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effort for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the task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sche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Task Plans -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9964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3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PSP,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e given the goals, strategy, and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he task order defined by th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PSP data to estimate the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ed the process to do the 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a team project, the team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ree on team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a strategy for the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he process t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 team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teambuilding steps will be described in week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632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Task Plans -3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99640" y="16318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the team has made the overall plan, the next step is to break it into individual ta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tasks are assigned to the various team members to plan and to impl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you are assigned team tasks, you use the PSP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and plan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your personal process to do the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, track, and manage each step of the 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works for individuals, whether they work alone or on team proj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300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9964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you have determined the task order and task time, you can make the project schedu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nvolves both project and period plan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ject plan consists of the tasks, task times, and task 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 planning involves spreading the project tasks over a calendar peri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4:03Z</dcterms:modified>
  <cp:revision>174</cp:revision>
  <dc:subject/>
  <dc:title>No Slide Title</dc:title>
</cp:coreProperties>
</file>